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D3F-B04C-4FEB-B4E0-8C992693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9F0-AB0A-43CF-B2D1-C179276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AB8-85E3-475D-9815-4492B387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3B5-89D7-4A33-979B-4E365499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357-169F-4E2C-92A6-3D30F16D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2DD-0AE5-4567-88A3-995BE93A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FD7-2E17-4ED8-AE23-543C816F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32F-5DDE-49B2-9DF0-D185789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8AF-51F8-47C9-B182-BFACFB97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DBD-96F5-4773-A919-FC0144A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2A8-94F9-4A38-88A8-C1CE17D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656-41AA-4DD3-BE40-34B3DFF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28D0-4A04-4F18-807C-92CB16024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CRAIGS                                  WHITECRAIGS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0" descr="Whitecraigs 2.JPG"/>
          <p:cNvPicPr/>
          <p:nvPr/>
        </p:nvPicPr>
        <p:blipFill>
          <a:blip r:embed="rId1"/>
          <a:stretch/>
        </p:blipFill>
        <p:spPr>
          <a:xfrm>
            <a:off x="415800" y="333360"/>
            <a:ext cx="1152720" cy="12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Whitecraigs 50th.JPG"/>
          <p:cNvPicPr/>
          <p:nvPr/>
        </p:nvPicPr>
        <p:blipFill>
          <a:blip r:embed="rId2"/>
          <a:stretch/>
        </p:blipFill>
        <p:spPr>
          <a:xfrm>
            <a:off x="2073240" y="333360"/>
            <a:ext cx="124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43:42Z</dcterms:modified>
  <cp:revision>22</cp:revision>
  <dc:subject/>
  <dc:title>PowerPoint Presentation</dc:title>
</cp:coreProperties>
</file>